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2E12-A1B1-4D1A-BADD-26A6DC99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4DBB-C464-40D4-A75D-032A0C58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73F5-AC6A-4181-BC1D-D825FACE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51DF-DA91-4F3B-B007-DB526C66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B753-46F1-4979-8473-79D697A2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DF9D-22E2-4DA8-B2B4-8D608DDA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572B-A90A-438A-A1EF-2CE34E58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3BA-F356-4F03-B5A0-FDB77CA9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7B4-941D-4659-BC08-4C37921D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26D-5D9E-48D9-9B52-FCF1006E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F30-5EF2-4797-8417-0802AE93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2BC7-5DE2-4109-979A-1ED7DECC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57F2-0FA1-40FD-94CE-84934473D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hyperlink" Target="http://www.iplayoutside.com/iplay/images/view.php?IMG_TAG=Events/2002/05/4949/019.jpg&amp;PHPSESSID=10b123d2aae01d825e019644fe51a943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ikepics.com/pictures/1615463/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bikepics.com/pictures/1613283/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www.bikepics.com/pictures/1614068/" TargetMode="Externa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Ride the New 25-M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Mountain Bike Tr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Veterans’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228400">
            <a:off x="192240" y="4708080"/>
            <a:ext cx="2620800" cy="16700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w Op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280" y="533520"/>
            <a:ext cx="89917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e Play in the Dark</a:t>
            </a:r>
            <a:endParaRPr b="1" lang="en-US" sz="32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 From All O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952880" y="4267080"/>
            <a:ext cx="4191120" cy="2590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0880" y="2133720"/>
            <a:ext cx="3810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400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Monotype Corsiva"/>
              </a:rPr>
              <a:t>Don’t be Afraid of the tr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4095720"/>
            <a:ext cx="3276720" cy="2762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781680" y="2514600"/>
            <a:ext cx="23623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4008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radley Hand ITC"/>
              </a:rPr>
              <a:t>Bring a Fri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124080" y="3809520"/>
            <a:ext cx="3657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Have a little f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57800" y="4761000"/>
            <a:ext cx="3886200" cy="209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990720"/>
            <a:ext cx="2362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4400640"/>
            <a:ext cx="2743200" cy="2457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858000" y="342900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743200" cy="1371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Monotype Corsiva"/>
              </a:rPr>
              <a:t>RIDE RIDE RIDE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her-motorcycle.com"/>
          <p:cNvPicPr/>
          <p:nvPr/>
        </p:nvPicPr>
        <p:blipFill>
          <a:blip r:embed="rId2"/>
          <a:stretch/>
        </p:blipFill>
        <p:spPr>
          <a:xfrm>
            <a:off x="1066680" y="0"/>
            <a:ext cx="7143840" cy="161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876920" y="3352680"/>
            <a:ext cx="4267080" cy="3238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Woman Motorcycle Rider"/>
          <p:cNvPicPr/>
          <p:nvPr/>
        </p:nvPicPr>
        <p:blipFill>
          <a:blip r:embed="rId4"/>
          <a:stretch/>
        </p:blipFill>
        <p:spPr>
          <a:xfrm>
            <a:off x="0" y="175248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Clinic Pic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90720" y="4495680"/>
            <a:ext cx="236196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stellar"/>
              </a:rPr>
              <a:t>Bikes are For the Big Kid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Info: Alick Saunders - Photograph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343400"/>
            <a:ext cx="2590560" cy="1727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1752480"/>
            <a:ext cx="2286000" cy="15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257184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35:39Z</dcterms:created>
  <dc:creator>762703</dc:creator>
  <dc:description/>
  <dc:language>en-US</dc:language>
  <cp:lastModifiedBy>762703</cp:lastModifiedBy>
  <dcterms:modified xsi:type="dcterms:W3CDTF">2009-03-30T16:09:30Z</dcterms:modified>
  <cp:revision>3</cp:revision>
  <dc:subject/>
  <dc:title>Slide 1</dc:title>
</cp:coreProperties>
</file>